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862-8793-4DBC-9C81-A1E323AD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8EB-3075-4EE8-81A7-A22D6A97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5DB-D0EE-400C-824D-0AE0F8A0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21CA-B419-4FE8-AD5E-306406C8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C9FC-9B41-4BC3-BEDC-B0AB76F7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D151-A255-4C06-9024-3A8A8F9E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4506-A4AE-479D-9A14-ADEF62E8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F744-E8AF-45C6-A512-8D3172DF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1C8F-3DAC-49FA-BE43-82BADA5E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DF11-A086-4357-86C6-C22B5D70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9FE0-4B87-4C55-A5F4-50402CAF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E0D-8868-4657-A459-D9611C10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294C-52F4-4F88-B1B5-7F21C698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A90F-D098-49E5-9EA3-7C4E764E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EC94-CDDF-4675-A70C-D7647937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E899-1F52-49EC-9999-50344220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C7D8-4BD8-4440-9252-04E2EA97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2BE2-F92C-4DEC-9FB2-CBAAA690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79F0D-0E7B-40C1-969F-9C6F2402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8036A-2514-4FF3-81A8-47806BD2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93CD0-7883-4DDE-B94D-D1F0F044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94F28-C2FB-4264-8B8D-3BC67A61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E44-ADA9-4823-870C-406CF105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E6FB2-2751-43DC-B506-8E7C0CE5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5AF94-1BE9-4D0D-9AB0-4BB5335C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349AF-A45A-4EFB-B83C-09A5D3E3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63A25-70F8-4253-BD19-49E1A4EA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8C4CF-0B2D-443D-966C-36D67D0A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63C30-5408-4247-A974-8B7A51DC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FFB88-D093-4B2C-BAAD-BB58AF0C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54CDE-C14D-49A5-BBE2-7D68CEFB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C79E2-2D47-46DE-B799-9D07E66A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7B2D4-1ACB-47D8-B366-42490B8F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047-6F03-4B3D-9E75-2E9C71B6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F931D-1218-4AD9-9435-F36FCB5C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49244-2EC6-4B07-ADA3-D347DC20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500AB-7FFB-4834-8F10-7503DC01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6FED8-12B7-4EDD-A150-D0F6528C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1F8B6-D4DA-41A6-9F7C-47F30CF8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97BB7-86FB-46D2-B42A-64024D28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B8567-C9E6-4B6D-81EA-6AECBDA5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7924A-C6AE-40E8-96EA-080CD90D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0ED18-B475-4CD5-9EC1-B3930C62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3AE4D-BCA1-4D74-A91D-32622E1F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AA1-C4AB-4E9C-BDE5-22B6E69E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0EBE7-A4AC-407F-9A06-31344A55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2F368-E6B8-4542-8FC5-822EB071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0F64C-C7D3-4877-86A9-B5C83CB6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1281B-D776-4239-BAFD-5867B510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BF905-874F-4C9F-8517-145A82F8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19646-9B7B-4279-9522-E3FA69AD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2F7A8-AAB6-4A94-B2A7-945339B2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4D4BF-0C1F-4135-B8CB-9EADBB42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0FAA6-16C1-4D83-BF67-ADBCAADB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CFEBB-3A62-4A19-A23B-94078375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137-F0AA-4AB7-8C87-7C913AA6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FA273-7C87-45E8-9523-3A09E7F2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EDAB1-0C4D-462F-8AE6-40A9FE63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A46FC-DE87-4781-A6AA-E3D13C2D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1C88F-A3F9-4777-BD41-5E602B09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B39E3-8A3F-4888-988C-4C880F1D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B34A7-A485-499F-B238-1228FD6C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0C7C3-FF14-4861-A6AB-BED1D8AA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04A3D-81E7-4A10-B894-165C8D46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C0279-1716-4A0F-A6ED-F366D108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B4729-D807-4827-8733-A5FA66E9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D12-0F72-4FA9-A7C5-55877261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63BD3-7C78-4F89-B418-B07C51AE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5C49A-4654-496C-9A07-F756F69A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31EDF-7798-4DA9-B4CE-E7096B4F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7F146-CB7E-4410-9536-F409760A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0D2AB-8EE6-4A33-A637-0DF4EA12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15DFC-02E7-4D10-9820-9C59E517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8ADF8-0705-4D7A-9B2C-0DC892FC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523E7-2759-4AB5-9F46-06CB8E38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133FD-ABF7-4FE6-9053-29215AED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1E924-ED2F-4C74-8C3E-DC4CEAB0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3A1-C3AE-46BB-86AE-D4FEB487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A7BDB-5E52-4F60-8AA2-447992EE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18013-860D-40E5-AD4C-F646C30C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620A4-5991-41CC-A57B-E07D07C3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2419E-5869-4A39-8070-4F9196BB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89C8C-E563-4BCB-805E-562B178C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A9A-6807-41F9-97C0-5143BC1C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8E1D-F593-4B21-B789-46E4D8503E9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F00C-E7BB-4D5C-B22E-5305FB88DC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9442-401B-435E-BD6C-2834C38F3D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64B7-01E8-4181-AF2D-1D291E562B4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ACBA-432B-4674-8DC4-945CC17B04E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35A1-551C-449E-9E13-F0BB38B4ED8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5C43-C8F3-4532-9C73-FB922CD7555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208080" y="-298440"/>
            <a:ext cx="8259480" cy="25113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2" descr="http://www.shirtfactoryonline.com/images/NikeLogo.gif"/>
          <p:cNvPicPr/>
          <p:nvPr/>
        </p:nvPicPr>
        <p:blipFill>
          <a:blip r:embed="rId2"/>
          <a:stretch/>
        </p:blipFill>
        <p:spPr>
          <a:xfrm>
            <a:off x="609480" y="2133720"/>
            <a:ext cx="3552840" cy="2422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http://www.mysport.ie/images/adidas_Logo.JPG"/>
          <p:cNvPicPr/>
          <p:nvPr/>
        </p:nvPicPr>
        <p:blipFill>
          <a:blip r:embed="rId3"/>
          <a:stretch/>
        </p:blipFill>
        <p:spPr>
          <a:xfrm>
            <a:off x="5638680" y="3809880"/>
            <a:ext cx="31575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ICHAEL JORDA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RST JORDA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AS REALESD I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977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4114800" y="2971800"/>
            <a:ext cx="460224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UN DMC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ELL TOPS MADE 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986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578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rbel"/>
              </a:rPr>
              <a:t>I LOVE NIKE SHOES !!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8:16:14Z</dcterms:created>
  <dc:creator>LTSD</dc:creator>
  <dc:description/>
  <dc:language>en-US</dc:language>
  <cp:lastModifiedBy>LTSD</cp:lastModifiedBy>
  <dcterms:modified xsi:type="dcterms:W3CDTF">2010-04-09T18:43:45Z</dcterms:modified>
  <cp:revision>3</cp:revision>
  <dc:subject/>
  <dc:title>NIKE VS. ADIDAS </dc:title>
</cp:coreProperties>
</file>